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611-C98B-4695-B0BF-8ADDA500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4FD-7A9C-4873-BF5D-EF962E24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FFA-F272-4C65-B22E-863CBAE1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D2A-809C-419F-9947-ECA15FE7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62EE-B6BB-4521-9531-93843F77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A97B-E5D3-448D-B6FB-5A9E59A3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801-C68D-4F42-9C2C-646CE62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61FC-14B5-465B-9DBE-73F70240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75E2-5EA6-4272-BB44-B1DC8015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FA8E-F90E-4F35-8634-0CEF4D68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C65B-0E39-438A-A0AB-EFD916C8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D98-C808-471E-9A8D-B9CCDC59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5001-1B39-469F-9978-F3FA9FE4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6EC8-CE65-4B23-821A-718BCDB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8BB3-A639-4989-99B1-2BC81C30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C689-E395-45AE-BD93-E26E0399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4192-D340-43E2-BD69-7EF942C5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08B-14C1-4711-BB45-1F78975B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F98-7AF5-4220-B8CC-24F4928B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3F4-3A29-4C32-9B2A-6CAA8F2E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B35-267C-4B6A-AF20-1AB6BD59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040-8FAE-4223-93CE-26CAA73F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3BC-FF41-44C3-BA19-17C7F0E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7EA-8826-46E8-A6F4-F344674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BFB0-F0AC-415D-B8C4-B590CB6A96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C595-683F-463C-836D-A761529D47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MERGENCY DEPARTMENT ULTRASOUND BAS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CRMC - June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igh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rison’s pouch a potential space between Gerota’s facia and Glison’s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area of lower rib cage anterior to midaxillary line marker pointed cephal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and is a positive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UQ (Morrison’s Pou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971800" cy="24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2819520" cy="2641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819520" cy="246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09480" y="4952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Hepato-Renal Re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15238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id in Morrison’s Po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62320" y="5257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hepatic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17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8760" y="586728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Lef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spleen an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oriented mid to posterior axillary line over lower left costal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between spleen a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Q and RUQ views have capability of detecting hemothorax (anechoic fluid above diaphrag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 - LUQ (Spleenorenal Space)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956040" cy="33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340080" cy="4190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85800" y="510552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Spleno-Renal Re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91800" y="55627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leno-Renal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3240" y="571500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B:  Remember to also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ff00"/>
                </a:solidFill>
                <a:latin typeface="Arial"/>
              </a:rPr>
              <a:t>Spleno-Diaphragmati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50680" y="601992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uterus (pouch of Dougl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bladder (rectovesicular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nechoic stripe with well defined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ntuated by full bladder - check PRIOR to Foley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2286000" cy="202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59092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2438640" cy="187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2819520" cy="1824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886200" y="1676520"/>
            <a:ext cx="2209680" cy="12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4760" y="198108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- no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520" y="6019920"/>
            <a:ext cx="314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e Fluid =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diac Eval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seless electric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tampon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wall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rance:Effusions echo free areas within pericardial s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effusions &lt; 100 ml dependent pos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usions &gt; 300 ml visualized both anteriorly and posterio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bxyphoid Vie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24280" y="2457360"/>
            <a:ext cx="4038840" cy="2814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4038840" cy="309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440" y="57913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out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4400" y="57913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bdominal Aortic Aneury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nography as accurate as CT when measuring aortic di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bral spine is land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 from diaphragm to distal bifur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from outside wall to outside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&gt;3 cm is ab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C to right, thinner walls, compresses with probe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in both transverse and saggital pl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A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828800" cy="197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943280" cy="200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31120" y="2209680"/>
            <a:ext cx="169524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46280" y="453852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VC at liver border just superficial to spine and Aorta adja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a at level of the celiac artery showing hepato-splenic branc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on iliacs adjacent to the IVC just distal to branch po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created by high frequency sound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reflection indicates depth of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reflectors appear white (hyper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transmitters appear black (an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ow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poor resolution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good penet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penetrate subcutaneous f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High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good resoluti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or penetration (better image if penetration not an 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rinary Obstr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contains two distinct sonographic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Sinus: center of kidney -  hyperechoic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Cortex: periphery - much less echoge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 - anechoic area w/in renal s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Cysts: round thin-walled anecohic structures located in renal 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al calculi not well visualized (19% of all documented stones, CT 9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 - post-void residual &gt;2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mal Renal I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166356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76920" y="1739880"/>
            <a:ext cx="3809880" cy="34416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dronephr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81840" cy="1933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716200" cy="2198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363760" cy="221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667240" cy="2190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 Disea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g modality of cho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sonographic finding gall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 as echolucent structures within gallbladder that move with position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sonographic Murphy's sig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oint of maximal tenderness to transducer pressure is directly over sonographically located gallbladder. (92% positive predictive val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wall thickening: &gt;3  mm (occurs 50-75% with acute cholecystiti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2971800" cy="24130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3048120" cy="23464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335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lculous Gallbl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39625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lbladder Calculi - note acoustic sha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514600" y="3733920"/>
            <a:ext cx="3733920" cy="2292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olecys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81480" cy="4611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90720" y="60958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: Stone shadowing &amp; gallbladder wall thic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dden Loss of V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59056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2971800" cy="2228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678320" y="358128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ffected eye is used for compari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362320" y="4191120"/>
            <a:ext cx="35049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rst trimester pregnant patients presenting with abdominal/pelvic pa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ginal bleeding require ultrasound to locate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tational sac, round or oval anechoic area surrounded by two concentric echogenic  rings (double decidual sign) earliest sonographic find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ggestiv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I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CLUSIVE evidence - yolk sac, fetal pole, or F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vaginal: detection as early as 4.5 weeks after LMP beta-HCG &gt;2000 mIU/ml (discriminatory z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bdominal: detection 5.5-6 weeks post L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without CONCLUSIVE evidence of IUP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gardles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f beta-HCG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ble with minimal discomfort - home w/close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table vitals or significant pain - Immediate GYN con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257480"/>
            <a:ext cx="3429000" cy="259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429000" cy="2360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429000" cy="2595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419720" y="4114800"/>
            <a:ext cx="3276360" cy="248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ance in performing para/thoracentesis and placement of central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foreign bodies (wood,glass,metal and plas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flui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joint effusions &amp; abs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bladder volume prior to c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eritoneum, hemoperi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activity, pericardial effusion/tamponade, fluid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Aortic Aneurysms / Dis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&gt; 3 cm, intimal flap, hemoperiton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cted stone, bladder outlet ob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da Equina, 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void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lstones, wall thickening, pericholecystic fluid, sonographic Murph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den Loss of 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nal detac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meste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uterine pregnancy, free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a/para/pericardiocentesis, line placement, bladder cathete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marker corresponds to images on left side of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verse planes: marker oriented towards patients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tal planes: marker oriented towards patients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28195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oustic Shadow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und waves blocked by echogenic structures create an anechoic area distal to the obstruction. Acoustic shad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XA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s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omin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ography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inva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epa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xposure to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racy equal to DPL in detecting hemoperitoneum (Sensitivity 90% Specificity9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aperitoneal Fluid Distrib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Standard Vi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4343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Standard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xiph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82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23:12:58Z</dcterms:created>
  <dc:creator>mark serra</dc:creator>
  <dc:description/>
  <dc:language>en-US</dc:language>
  <cp:lastModifiedBy>Steinhart Rachel</cp:lastModifiedBy>
  <cp:lastPrinted>2009-05-22T04:35:55Z</cp:lastPrinted>
  <dcterms:modified xsi:type="dcterms:W3CDTF">2009-06-05T23:34:39Z</dcterms:modified>
  <cp:revision>19</cp:revision>
  <dc:subject/>
  <dc:title>PRINCIPLES OF EMERGENCY DEPARTMENT SONGRAPHY</dc:title>
</cp:coreProperties>
</file>